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A0E-A6A4-41AB-86AC-70B743C3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593-B565-4889-B542-79A7C9D7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5C618-38A9-4F29-B413-FB70AC43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E55C3-4CD3-40BC-98CB-AC091B4A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924AD-D211-4364-8C57-515C008C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CC4DC-23E0-4E31-B7CB-1CE90B3C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1F701-E540-408E-9A5C-A151F89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B3AA7-66D7-4026-9188-3099766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ED0F3-5EBD-4180-A36A-37A0E01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8CDD5-DA77-421F-90AD-FE1836AC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AA788-8EF6-4FC2-9CFE-A015A14E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B4AB5-AD17-4645-8FAD-8FC5C88E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9E4-0E74-4FEC-80AF-903BD77D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261C6-05AC-4464-92F6-95C0B1CA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CD8C1-CD1A-435A-BF9B-74195B5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81AFF-86AE-438B-91D1-ACDE85F4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9604-6603-4E63-AB02-1718EDE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D8BEC-C507-4DBC-95C8-91D52060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B7C32-F75B-42C1-9048-C4B2645F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3FEC9-BE3C-4894-AB3B-1A2FDE9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65149-3D3C-415E-A979-5DAEEC8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710DE-0754-4A0D-AF8B-13417690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14277-9393-4C5D-8AFF-5C86CBD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7D07-ACFF-4E77-9A56-39C3401D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CD647-4B35-4FCE-B9D9-78639E14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C9F4B-1847-4157-B20F-8B2275CA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A172-064B-4129-9965-0C5893FD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CB399-FB73-431D-8331-9085F760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82DCB-C401-402D-AC92-605147B8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AA5F-2690-4D69-ADF9-4E9B3572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C49E7-C387-4FA9-839F-6E0EBF71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11D19-3BCC-4641-BC18-BE70CC34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EA13B-0F01-4BF5-8F67-9FBA242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B409-CD21-420D-A3B4-E30D0E7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8A5-560F-4F52-B3FA-704C0E7C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8D50-4E9B-4A1A-880D-EE5C60C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25837-9F62-4191-A398-664B3D80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99D8C-4AB5-4EC0-AB11-F7115201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FD461-D5F7-4247-8BE9-8F963137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539CC-DE87-404F-9C03-7852630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18B70-EC91-4A3F-B788-285D8CE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42C8E-74D7-4EB8-83DC-CBB17CB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1E45F-9C17-4944-BCF0-608D42F2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B413B-D4CA-4886-B000-1F13BFEC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E5636-A2F5-4FB7-8DFE-81F1ACFE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2274-28D8-4F19-829C-1685F02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D42CC-1E2E-4F11-8D36-F14757C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C06A2-E7FF-4B38-88B0-61164BE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47667-B7C6-41D9-8AD4-04E532F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DCE0B-9101-4DB4-867C-486CE690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47AE2-19B0-454B-9A96-104509B4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B79A-2189-46F1-A4D0-4E93C923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6E91-93EA-4D0E-861F-A5CFD23D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492C-19AE-463F-84E0-C0A2C7B3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C9BF-507A-4465-BD28-F2444B23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EA24-5B9A-4A1B-BED1-5300C196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EE2-96F4-4A18-AA0D-4568A50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F8A-074E-44A6-A569-FB08111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D334-D11A-4AB2-A8CC-264E041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D1C-9C69-4D07-8EE0-C19A6FB2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C30-B6B1-4F1E-AFF6-6FDA9567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2C82-FEFB-4157-B868-2485E451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64F0-DEFD-4D5E-9C26-2926338B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01CF-1015-4C1E-BB9A-3256587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2A9B-1111-4C2E-A6A5-FC9B230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FCDA-B1FF-4181-8820-7D4DF57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EB1E-3A2F-4AB1-9857-2E50ADF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ADE-ADCE-483C-A957-1BC0EBE9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721E-5417-4B1B-9821-CCA2D15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4AE2-35C9-4235-B20D-CC47674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ED72-3598-4468-9FF9-CB4B49D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035A-1DE4-44B0-A30A-0BE5920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6379-C204-4BA6-BD27-09D7D5A0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7C26-BC92-4981-8DF3-8529818B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E845-54C4-4E5A-99E9-4EB6FD35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C11A-A728-40C6-942D-42D08AB9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6D501-BC87-47CA-A2E9-C31F3FD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B5F4-AF6B-4FA4-B16F-642CDF2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FE3-A44A-4581-89A6-243B561B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E95D-8FD5-4224-A8BC-7688B39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E98F-8ACD-432D-845E-69AF51E7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8D22-8C09-41AA-8A1C-0A8EB4C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D7F3-4450-4349-A228-C9A2A47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F003-F48D-4B29-93E0-0CA4A4C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9596-F508-43F6-AAA6-C17B33C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B768-BF42-480C-B865-A6241248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31CE-1C8B-4C11-9A17-A21450B1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5804-FFE3-435D-8A51-AE29CE67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1B94F-8238-4E3D-8B75-B2778CFA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F75-9D5F-4718-9220-E08F84A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2B13D-4EC2-476E-A390-0B62952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02029-91CF-437F-B3D2-16631D6A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9B7C6-3010-48C4-A048-C76BB62D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82AFA-F2FE-40A9-8059-52A6E34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03CD5-C88F-40E8-ACB6-B98DF9CD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E4C82-8E6F-42C7-A83E-3F79FA5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39088-F1F6-4A58-98D2-DAF683E1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4A79B-2B04-47B4-9E9D-2E93244C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8A7EE-CE30-47C8-AE74-5A49842F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54C06-0427-4871-8AF5-03A31512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246-44A0-4A7F-9144-85BAB477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EF102-8A8D-4A26-94D6-4BE905BB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4067-85D0-4425-847B-087EED67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1AA5-E7E4-477A-9DE7-39874A0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AFB7-0E4B-42C6-AE88-32BE652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FD692-DA90-4C09-B208-2073CEF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1DCB6-2C92-4601-A5BB-4B47F1F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C252-D6FC-42E4-AE1A-559EA85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A3BE6-967E-4E49-8BB4-B7202A8B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64183-B86A-4FB7-9A41-B3CE27DA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62DC-EBFE-4A2F-A997-AEAB637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AE7-98FF-4EF0-BE8D-D654A02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DEE1-CA8F-4F43-B37A-B5CFD5D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9BF68-53EC-4DDA-B25A-1ECC2CA4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3C82-2045-4469-BA92-63366A01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53B8-FDAB-4217-B735-37AA9894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1F6B-9B7F-41C3-B841-9A0B418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536EB-4622-472E-93CE-A83AB525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910F0-FC1D-4CE3-B4FE-A48A3D45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1D5B1-3324-4160-93DD-3C5047B2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F691-8238-407D-A5C1-6E973F3C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232D9-5BE2-41E8-839B-28080AFA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9D2-4AEA-45C9-B6F2-7F9AA80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D0CA5-A4A5-4DCA-BC69-6D5978D6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D4D0-EF6E-4FB8-B18C-FF61611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D2BF8-3435-4AD6-B805-6D08E695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7CC5-96DE-41FE-8A3E-178B5366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295B2-B1BD-464A-B41E-AD3AA6F9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4D3D-9A8D-4828-9BBA-E969CD14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45A8-D840-482C-B229-095F174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69E6-D2E1-4BED-B81D-03871EF1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5942-8714-4411-872D-80C7A94B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7164-86A4-49CE-9D06-184E896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30B-CA44-4677-B9F1-4A33904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3D349-3FB1-4C8A-968E-CCBBFC5D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D26D1-139A-41FE-8939-CC71CCB7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53348-39EF-4F1E-910F-179F12F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8228-589D-4F7C-B671-ADB3D402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C0BA-BBB5-4EEE-96CA-C7E5D627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89AA4-A3A3-416A-9B87-001032A1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D21B6-AD3F-405A-96EC-A08C5B66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500E4-3293-456C-B002-60CD3F44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58BE7-8983-43C3-AB0C-DA5BB78B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49B54-A0A2-4CA8-BD34-7A48EF0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0A2-45CC-4C1A-83C7-F313917FC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B93A-3456-4187-9D97-15B251F9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D687-6AD4-4323-B9A5-C095465513E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871E-750D-4C61-B738-DF675BA9EA3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874-A618-4DF4-B6C1-A41B9707E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CF39-592A-4CFB-9BA5-88B9526A75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6517-3A59-4EA9-8FC9-C80FFF22F0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7DE6-011E-444B-8F21-B40F6B8982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14BB-4CF4-4429-BA60-175826F61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23D-C796-466A-85E0-5E534A253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08F6-5340-4313-8866-77A30C49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BAA-477F-49E4-B16B-5156AD813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acrifi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5ffff"/>
                </a:solidFill>
                <a:latin typeface="Tahoma"/>
              </a:rPr>
              <a:t>What were people called when they followed Satan?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zomb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death 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wiz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 (yes even bo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tchcraft was one of the greates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gi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pres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 build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t was against the law to not go to chur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al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rrect answer i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st people were accused of witchcraft becaus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had their shirts un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never had d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were under the age of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happened to the people who were accused of witchcraft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sent out of 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got 1,0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had to work 4 days for some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punishment given for being a witch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they were sent to 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they were put on a sh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. none of the abov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1:28:46Z</dcterms:created>
  <dc:creator>kat11088</dc:creator>
  <dc:description/>
  <dc:language>en-US</dc:language>
  <cp:lastModifiedBy>Mr A</cp:lastModifiedBy>
  <dcterms:modified xsi:type="dcterms:W3CDTF">2008-10-15T13:52:31Z</dcterms:modified>
  <cp:revision>3</cp:revision>
  <dc:subject/>
  <dc:title>The Sacrifice </dc:title>
</cp:coreProperties>
</file>